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A7C5-B4F1-4FC3-BCAF-AF0B448C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8FE5-8C49-4EBE-9FDC-E2EFD969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1C84-E29E-49F1-A492-28DFDDAB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083-3E1F-4419-84C0-6DFAE706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5282-F11B-41FA-8EA6-E54D0729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4E7D-57FD-46E5-8FF0-CFFCBDA7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BE3C-39BE-445C-8566-2E366D99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8583-D520-47F0-886F-DAD4FFFB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ACA1-783F-4231-B0DB-C32D50A7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BAE3-4501-4206-AF92-DC8BB9D5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5ED1-FA32-439D-BFDC-1D399B55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316-832F-47FF-9AC0-50339D36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89C2-CBE2-495C-8B12-84D635A8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41E2-9C59-4C26-980C-19AA944A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CBE3-112F-4F7F-B3A9-B0D914F2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B240-9350-44C2-B5DE-E0CFE011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7E8C-104D-404F-B14B-D5A15A30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A1F-E761-47F5-83B0-921533F9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DDB-4088-4D0D-A3DF-733B2B51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14D-558E-47ED-9D33-BFF11BB7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303-E29E-4CD2-BC0F-BDF59958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34A-DBB8-402B-9BB9-0BA3396B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088-D0FA-40A4-B9E6-473FA1EE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2C6-CAF3-405B-87BA-0201AC30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D221-06E5-4BAE-9018-04DF1C9EE37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C054-28A7-4B81-BAB5-706BBF8DE11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juntadeandalucia.es/averroes/eoigranada/recursos.ht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3300"/>
                </a:solidFill>
                <a:latin typeface="Garamond"/>
              </a:rPr>
              <a:t>CLIL AICLE EMIL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0000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Quien no conoce otras lenguas no sabe nada de la suya. Goe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755640" y="5388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140360" y="5084640"/>
            <a:ext cx="3166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Garamond"/>
              </a:rPr>
              <a:t>Escuela Oficial de Idiomsa de Gr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Garamond"/>
              </a:rPr>
              <a:t>Juan Manuel Cri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image001"/>
          <p:cNvPicPr/>
          <p:nvPr/>
        </p:nvPicPr>
        <p:blipFill>
          <a:blip r:embed="rId1"/>
          <a:stretch/>
        </p:blipFill>
        <p:spPr>
          <a:xfrm>
            <a:off x="900000" y="907920"/>
            <a:ext cx="6458040" cy="10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116000" y="1916280"/>
            <a:ext cx="53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Dimensiones y enfoques de los programas  </a:t>
            </a:r>
            <a:r>
              <a:rPr b="1" i="1" lang="es-ES" sz="3200" spc="-1" strike="noStrike">
                <a:solidFill>
                  <a:srgbClr val="000000"/>
                </a:solidFill>
                <a:latin typeface="Garamond"/>
              </a:rPr>
              <a:t>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0" y="2997360"/>
            <a:ext cx="630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7020000" y="220500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1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539640" y="3213000"/>
            <a:ext cx="612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5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Garamond"/>
              </a:rPr>
              <a:t>DIMENSIÓN DEL APRENDIZAJE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-12600" y="3599280"/>
            <a:ext cx="736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Desarrolla las estrategias individuales del aprendiz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Diversifica las prácticas didác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Fomenta la motivación del aprendiz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7020000" y="2205000"/>
            <a:ext cx="180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¿ Por qué </a:t>
            </a:r>
            <a:r>
              <a:rPr b="1" i="1" lang="es-ES" sz="1800" spc="-1" strike="noStrike">
                <a:solidFill>
                  <a:srgbClr val="000000"/>
                </a:solidFill>
                <a:latin typeface="Garamond"/>
              </a:rPr>
              <a:t>CLIL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?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979640" y="19162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¿Por qué </a:t>
            </a:r>
            <a:r>
              <a:rPr b="1" i="1" lang="es-ES" sz="3200" spc="-1" strike="noStrike">
                <a:solidFill>
                  <a:srgbClr val="000000"/>
                </a:solidFill>
                <a:latin typeface="Garamond"/>
              </a:rPr>
              <a:t>CLIL</a:t>
            </a: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395280" y="2565360"/>
            <a:ext cx="76327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HAY TANTAS RAZONES COMO DIMENSIONES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ANTES ENUNCIAD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EN ANDALUCÍ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Garamond"/>
              </a:rPr>
              <a:t>PLAN DE FOMENTO DEL PLURILINGÜ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MEJORA DE LAS COMPETENCIAS LINGÜÍ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AMPLITUD DEL REPERTORIO DE IDIO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CONCIENCIA PLURILINGÜE DE UNA CIUDADANÍA EUROPEA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APUESTA METODOLÓGICA POR LAS LENG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979640" y="19162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Qué es </a:t>
            </a:r>
            <a:r>
              <a:rPr b="1" i="1" lang="es-ES" sz="3200" spc="-1" strike="noStrike">
                <a:solidFill>
                  <a:srgbClr val="000000"/>
                </a:solidFill>
                <a:latin typeface="Garamond"/>
              </a:rPr>
              <a:t>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7020000" y="2205000"/>
            <a:ext cx="1800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Premisa metod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Planificación y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Duración y tipo de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Destrezas y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1116000" y="3141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Premisa metod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Planificación y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Duración y tipo de ex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Destrezas y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979640" y="19162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Qué es </a:t>
            </a:r>
            <a:r>
              <a:rPr b="1" i="1" lang="es-ES" sz="3200" spc="-1" strike="noStrike">
                <a:solidFill>
                  <a:srgbClr val="000000"/>
                </a:solidFill>
                <a:latin typeface="Garamond"/>
              </a:rPr>
              <a:t>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020000" y="2205000"/>
            <a:ext cx="1800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Qué mate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Qué leng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Cen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Profe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1332000" y="29973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Qué mate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Qué lengu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Cen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Profes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971640" y="1916280"/>
            <a:ext cx="55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Formación del Profeso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7020000" y="2205000"/>
            <a:ext cx="180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Formación del profesorado 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406800" y="2781360"/>
            <a:ext cx="564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Creación de la figura del profesorado CLIL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con formación y acreditación especí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755640" y="3645000"/>
            <a:ext cx="525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1.- Metod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Trabajo en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2.- Lingüís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image001"/>
          <p:cNvPicPr/>
          <p:nvPr/>
        </p:nvPicPr>
        <p:blipFill>
          <a:blip r:embed="rId1"/>
          <a:stretch/>
        </p:blipFill>
        <p:spPr>
          <a:xfrm>
            <a:off x="324000" y="404640"/>
            <a:ext cx="6457680" cy="10861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6877080" y="765000"/>
            <a:ext cx="10796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Un m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0" y="1700280"/>
            <a:ext cx="2376360" cy="863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Marco curr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5"/>
          <p:cNvSpPr/>
          <p:nvPr/>
        </p:nvSpPr>
        <p:spPr>
          <a:xfrm>
            <a:off x="0" y="2781360"/>
            <a:ext cx="2376360" cy="863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6"/>
          <p:cNvSpPr/>
          <p:nvPr/>
        </p:nvSpPr>
        <p:spPr>
          <a:xfrm>
            <a:off x="0" y="3860640"/>
            <a:ext cx="2376360" cy="863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7"/>
          <p:cNvSpPr/>
          <p:nvPr/>
        </p:nvSpPr>
        <p:spPr>
          <a:xfrm>
            <a:off x="0" y="4869000"/>
            <a:ext cx="2376360" cy="863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Dimens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Lingüí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8"/>
          <p:cNvSpPr/>
          <p:nvPr/>
        </p:nvSpPr>
        <p:spPr>
          <a:xfrm>
            <a:off x="2700360" y="4869000"/>
            <a:ext cx="2376360" cy="8636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9"/>
          <p:cNvSpPr/>
          <p:nvPr/>
        </p:nvSpPr>
        <p:spPr>
          <a:xfrm>
            <a:off x="2700360" y="3860640"/>
            <a:ext cx="2376360" cy="8636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Portfolio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0"/>
          <p:cNvSpPr/>
          <p:nvPr/>
        </p:nvSpPr>
        <p:spPr>
          <a:xfrm>
            <a:off x="2771640" y="2781360"/>
            <a:ext cx="2376720" cy="8636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Aprendizaje por  tareas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Garamond"/>
              </a:rPr>
              <a:t>Learning by d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1"/>
          <p:cNvSpPr/>
          <p:nvPr/>
        </p:nvSpPr>
        <p:spPr>
          <a:xfrm>
            <a:off x="2771640" y="1700280"/>
            <a:ext cx="2376720" cy="8636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Atención a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2"/>
          <p:cNvSpPr/>
          <p:nvPr/>
        </p:nvSpPr>
        <p:spPr>
          <a:xfrm>
            <a:off x="5364000" y="2781360"/>
            <a:ext cx="2376720" cy="8636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Trabajo colabo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3"/>
          <p:cNvSpPr/>
          <p:nvPr/>
        </p:nvSpPr>
        <p:spPr>
          <a:xfrm>
            <a:off x="5364000" y="4869000"/>
            <a:ext cx="2376720" cy="8636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Profesores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4"/>
          <p:cNvSpPr/>
          <p:nvPr/>
        </p:nvSpPr>
        <p:spPr>
          <a:xfrm>
            <a:off x="3276720" y="6021360"/>
            <a:ext cx="2376360" cy="530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Medir los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5"/>
          <p:cNvSpPr/>
          <p:nvPr/>
        </p:nvSpPr>
        <p:spPr>
          <a:xfrm>
            <a:off x="5364000" y="1700280"/>
            <a:ext cx="2376720" cy="8636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Trabajo en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OLEGI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7"/>
          <p:cNvSpPr/>
          <p:nvPr/>
        </p:nvSpPr>
        <p:spPr>
          <a:xfrm>
            <a:off x="2411280" y="20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1"/>
          <p:cNvSpPr/>
          <p:nvPr/>
        </p:nvSpPr>
        <p:spPr>
          <a:xfrm>
            <a:off x="2700360" y="6165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2"/>
          <p:cNvSpPr/>
          <p:nvPr/>
        </p:nvSpPr>
        <p:spPr>
          <a:xfrm>
            <a:off x="500364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3"/>
          <p:cNvSpPr/>
          <p:nvPr/>
        </p:nvSpPr>
        <p:spPr>
          <a:xfrm>
            <a:off x="234000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4"/>
          <p:cNvSpPr/>
          <p:nvPr/>
        </p:nvSpPr>
        <p:spPr>
          <a:xfrm>
            <a:off x="234000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5"/>
          <p:cNvSpPr/>
          <p:nvPr/>
        </p:nvSpPr>
        <p:spPr>
          <a:xfrm>
            <a:off x="2411280" y="30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6"/>
          <p:cNvSpPr/>
          <p:nvPr/>
        </p:nvSpPr>
        <p:spPr>
          <a:xfrm>
            <a:off x="5076720" y="30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7"/>
          <p:cNvSpPr/>
          <p:nvPr/>
        </p:nvSpPr>
        <p:spPr>
          <a:xfrm>
            <a:off x="5076720" y="198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9"/>
          <p:cNvSpPr/>
          <p:nvPr/>
        </p:nvSpPr>
        <p:spPr>
          <a:xfrm>
            <a:off x="-167400" y="2997360"/>
            <a:ext cx="26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Garamond"/>
              </a:rPr>
              <a:t>Temas, Módulos, Proyectos</a:t>
            </a:r>
            <a:br>
              <a:rPr sz="1400"/>
            </a:br>
            <a:r>
              <a:rPr b="1" lang="es-ES" sz="1400" spc="-1" strike="noStrike">
                <a:solidFill>
                  <a:srgbClr val="ffffff"/>
                </a:solidFill>
                <a:latin typeface="Garamond"/>
              </a:rPr>
              <a:t>Asignat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2124000" y="177336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PROPUE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7020000" y="2205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PROPUESTAS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324000" y="2198880"/>
            <a:ext cx="669600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FORMACIÓN METODOLÓGICA EN </a:t>
            </a:r>
            <a:r>
              <a:rPr b="1" i="1" lang="es-ES" sz="1600" spc="-1" strike="noStrike">
                <a:solidFill>
                  <a:srgbClr val="000000"/>
                </a:solidFill>
                <a:latin typeface="Garamond"/>
              </a:rPr>
              <a:t>CL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FORMACIÓN EN EL DOMINIO DE LA LENGUA M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RECONOCIMIENTO INTERNACIONAL/NACIONAL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 DE LAS CALIFICACIONES DE ESTOS PROGRA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COORDINACIÓN ENTRE EL DPTO. DE LENGUAS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 EXTRANJERAS Y EL DE MATERIA NO LINGÜÍSTICA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 (TRABAJO COLEGI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CREACIÓN DE REDES PROFESIONALES. </a:t>
            </a:r>
            <a:r>
              <a:rPr b="0" lang="es-ES" sz="1600" spc="-1" strike="noStrike" u="sng">
                <a:solidFill>
                  <a:srgbClr val="7e9ce8"/>
                </a:solidFill>
                <a:uFillTx/>
                <a:latin typeface="Garamond"/>
                <a:hlinkClick r:id="rId2"/>
              </a:rPr>
              <a:t>BIBLIOTECA VIR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CREACIÓN DE MATER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SELECCIÓN RIGUROSA DEL PROFESORADO SEGÚN PERF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RECONOCIMIENTO PROFESIONAL DEL 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 PROFESORADO INVOLUCR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PARTICIPACIÓN ACTIVA UNIVERSIDAD. FORM. IN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PARTICIPACIÓN ACTIVA DE LOS PODERES PÚBL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3300"/>
                </a:solidFill>
                <a:latin typeface="Garamond"/>
              </a:rPr>
              <a:t>CLIL AICLE EMIL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90000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Garamond"/>
              </a:rPr>
              <a:t>GRACIAS POR SU A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Garamond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cc00"/>
                </a:solidFill>
                <a:latin typeface="Garamond"/>
              </a:rPr>
              <a:t>MERCI DE VOTRE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755640" y="5388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4140360" y="5084640"/>
            <a:ext cx="3166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Garamond"/>
              </a:rPr>
              <a:t>Escuela Oficial de Idiomas de Gr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Garamond"/>
              </a:rPr>
              <a:t>Juan Manuel Cri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image001"/>
          <p:cNvPicPr/>
          <p:nvPr/>
        </p:nvPicPr>
        <p:blipFill>
          <a:blip r:embed="rId1"/>
          <a:stretch/>
        </p:blipFill>
        <p:spPr>
          <a:xfrm>
            <a:off x="900000" y="907920"/>
            <a:ext cx="6458040" cy="10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7308720" y="37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684360" y="1916280"/>
            <a:ext cx="6048360" cy="30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EDU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UNIVERSALIZACIÓN ENSEÑAN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TECNOLOGÍA INFORMACIÓN 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ENSEÑANZA DE IDI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ENSEÑANZA MÚSICA, A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ALIDAD DE LA ENSEÑ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RECONOCIMIENTO SOCIAL DEL PROFES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050920" y="162864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Sum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11280" y="2133720"/>
            <a:ext cx="630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Qué es </a:t>
            </a:r>
            <a:r>
              <a:rPr b="1" i="1" lang="es-ES" sz="1800" spc="-1" strike="noStrike">
                <a:solidFill>
                  <a:srgbClr val="000000"/>
                </a:solidFill>
                <a:latin typeface="Garamond"/>
              </a:rPr>
              <a:t>CLIL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Dimensiones y enfoques de los programas  </a:t>
            </a:r>
            <a:r>
              <a:rPr b="1" i="1" lang="es-ES" sz="1800" spc="-1" strike="noStrike">
                <a:solidFill>
                  <a:srgbClr val="000000"/>
                </a:solidFill>
                <a:latin typeface="Garamond"/>
              </a:rPr>
              <a:t>CLIL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¿Por qué </a:t>
            </a:r>
            <a:r>
              <a:rPr b="1" i="1" lang="es-ES" sz="1800" spc="-1" strike="noStrike">
                <a:solidFill>
                  <a:srgbClr val="000000"/>
                </a:solidFill>
                <a:latin typeface="Garamond"/>
              </a:rPr>
              <a:t>CLIL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Premisa metodológ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Planificación y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Duración y tipo de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Destrezas y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Qué mate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Qué leng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en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Profesores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Formación Profesorado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Marco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Prop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7020000" y="220500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Sum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979640" y="19162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Qué es </a:t>
            </a:r>
            <a:r>
              <a:rPr b="1" i="1" lang="es-ES" sz="3200" spc="-1" strike="noStrike">
                <a:solidFill>
                  <a:srgbClr val="000000"/>
                </a:solidFill>
                <a:latin typeface="Garamond"/>
              </a:rPr>
              <a:t>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2997360"/>
            <a:ext cx="630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CONTENT AND LANGUAGE INTEGRATED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APRENDIZAJE INTEGRADO DE LENGUA Y CONT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7020000" y="220500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Defini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468360" y="414972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APRENDIZAJE DE MATERIA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 A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TRAVÉS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 DE UNA LENGUA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116000" y="1916280"/>
            <a:ext cx="53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Dimensiones y enfoques de los programas  </a:t>
            </a:r>
            <a:r>
              <a:rPr b="1" i="1" lang="es-ES" sz="3200" spc="-1" strike="noStrike">
                <a:solidFill>
                  <a:srgbClr val="000000"/>
                </a:solidFill>
                <a:latin typeface="Garamond"/>
              </a:rPr>
              <a:t>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0" y="2997360"/>
            <a:ext cx="630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0000" y="220500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Dimen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9640" y="3213000"/>
            <a:ext cx="6120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1.- DIMENSIÓN DE LA 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2.- DIMENSIÓN DEL 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3.- DIMENSION DE LA LEN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4.- DIMENSIÓN DEL CON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5.- DIMENSIÓN DEL APRENDIZ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116000" y="1916280"/>
            <a:ext cx="53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Dimensiones y enfoques de los programas  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0" y="2997360"/>
            <a:ext cx="630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7020000" y="2205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1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39640" y="3213000"/>
            <a:ext cx="61200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1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Garamond"/>
              </a:rPr>
              <a:t>DIMENSIÓN DE LA 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Construye conocimiento y comprensión entre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diferentes cul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Desarrolla las habilidades que entran en juego en la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comunicación inter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Da a conocer regiones o países vecinos, y/o grupos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 minoritarios concr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Amplia el contexto cultural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116000" y="1916280"/>
            <a:ext cx="53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Dimensiones y enfoques de los programas  </a:t>
            </a:r>
            <a:r>
              <a:rPr b="1" i="1" lang="es-ES" sz="3200" spc="-1" strike="noStrike">
                <a:solidFill>
                  <a:srgbClr val="000000"/>
                </a:solidFill>
                <a:latin typeface="Garamond"/>
              </a:rPr>
              <a:t>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0" y="2997360"/>
            <a:ext cx="630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7020000" y="2205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1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EN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39640" y="3213000"/>
            <a:ext cx="612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2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Garamond"/>
              </a:rPr>
              <a:t>DIMENSIÓN DEL ENTORN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Prepara para  la internacionalización a través de la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integración europea. (Ciudadanía Europ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Prepara para obtener título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Mejora el perfil de la Esc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116000" y="1916280"/>
            <a:ext cx="53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Dimensiones y enfoques de los programas  </a:t>
            </a:r>
            <a:r>
              <a:rPr b="1" i="1" lang="es-ES" sz="3200" spc="-1" strike="noStrike">
                <a:solidFill>
                  <a:srgbClr val="000000"/>
                </a:solidFill>
                <a:latin typeface="Garamond"/>
              </a:rPr>
              <a:t>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0" y="2997360"/>
            <a:ext cx="630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7020000" y="2205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1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LEN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539640" y="3213000"/>
            <a:ext cx="6120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3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Garamond"/>
              </a:rPr>
              <a:t>DIMENSIÓN DE LA LENGU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Mejora la competencia lingüística general de la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 lengua m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Desarrolla las habilidades que entran en juego en la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comunicación 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Sensibiliza tanto hacia la lengua materna como hacia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la lengua meta.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Garamond"/>
              </a:rPr>
              <a:t>CURRÍCULUM INTEGRADO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Introduce una nueva lengua m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116000" y="1916280"/>
            <a:ext cx="53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Dimensiones y enfoques de los programas  </a:t>
            </a:r>
            <a:r>
              <a:rPr b="1" i="1" lang="es-ES" sz="3200" spc="-1" strike="noStrike">
                <a:solidFill>
                  <a:srgbClr val="000000"/>
                </a:solidFill>
                <a:latin typeface="Garamond"/>
              </a:rPr>
              <a:t>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0" y="2997360"/>
            <a:ext cx="630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020000" y="2205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1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539640" y="3213000"/>
            <a:ext cx="6120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4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Garamond"/>
              </a:rPr>
              <a:t>DIMENSIÓN DEL CONTEN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Diversifica las perspectivas con que se estudian los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conten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Presenta terminología temática específica en la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lengua m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Prepara para estudios posteriores y para la vida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profe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23:02:21Z</dcterms:created>
  <dc:creator>pc</dc:creator>
  <dc:description/>
  <dc:language>en-US</dc:language>
  <cp:lastModifiedBy>Morcillo Reyes</cp:lastModifiedBy>
  <dcterms:modified xsi:type="dcterms:W3CDTF">2014-01-21T11:38:35Z</dcterms:modified>
  <cp:revision>103</cp:revision>
  <dc:subject/>
  <dc:title>CLIL, AICLE, EMILE</dc:title>
</cp:coreProperties>
</file>